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829-C8D2-4D00-AA72-D483EC9F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6F7-B285-45D5-8D21-819D1F11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C12-B04D-4967-BEC3-BC4AF141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504-8991-4746-9922-EA92879A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B1C-137E-4F5F-A870-F931E34B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A89-DC26-4477-9EB1-0C1E4F81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6E5-72E1-44D3-BDEB-F8850833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E0D-6396-498F-A2E8-9D5A6A6D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C52-8953-4DC8-8A27-8C5EBC63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737-A55B-47FF-8975-5F164FBA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DDF-D6D8-48D2-9121-B0FC869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CCF-873E-48B0-B808-346224BC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C607-FDE8-4AF8-B6B5-54D8031640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3944-A6CC-41C5-B979-3E07FDAF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E7B2-7659-4821-B83D-63AAE9F47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Imple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Brooks, R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ia.brooks2@cms.hhs.g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Technical Ad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and Ambulatory Policy Group, CMM,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BA9-7F98-4C06-9D64-CBD54543BD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versions of ICD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CM (diagno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2m_2009_ICD_10_CM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PCS (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1m_2009_ICD10PC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7D6-C397-4763-AF1C-9E2DC8A161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C6BD-BA9C-479B-B0A9-C264EBB2D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Diagnoses – used by all types of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CM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Procedures – used only by inpatient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Procedural Terminology (CPT) &amp; HCPCS– used for all ambulatory and physician procedur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eing replaced by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196-B91C-4D54-A33B-B57614B04A5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2F13-1F79-4549-8476-4D47CAB20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is Outd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years old – technology has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ategories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scriptive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39A-AA80-499C-9DDC-4E07A8A91DB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DC11-ED96-4D1D-BC59-3EAFBD83D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Using ICD-10 For Reimbursement or Case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 (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dic countries (Denmark, Finland, Iceland, Norway, Sweden) (1994 –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(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 (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790-AD3D-4DDB-BFD4-60825D4B487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42A3-A637-457A-9C15-77EC65903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5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1 – 17: all character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l chapters: first digit is alpha (E or V), remainder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6  Chronic airway obstruction not elsewhere classified (N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1.9  Unspecified pleural e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02.61  Hepatitis B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DC2-BB40-42E9-8B1B-60DBDF858E3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1E4B-CAE2-4AB2-AF75-731C92174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has 3 –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1 is alpha (A – Z, not case sen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2 is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3 is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s 4 – 7 are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6  Ya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9.20  Lyme disease, unspec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9A.311  Physical abuse complicating pregnancy, first trimes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42.001A  Fracture of unspecified part of right clavicle, initial encounter for closed fra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163-D7C5-4194-8FCB-CAEC1B04F0B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8775-A5BB-46CB-92C0-01DA6E8F1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4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4 digit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.5  Partial gastrectomy with anastomosis to 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.42  Suture of duodenal ulc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69B-BD74-48CE-A090-890DE0CB6F5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3DB5-8E18-4BFA-937B-693E8E06E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has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n be either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0 – 9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 O and I are not used to avoid confusion with numbers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B03ZX Excision of liver, percutaneous approach,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DQ10ZZ  Repair, upper esophagus, ope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8F1-F371-4BB7-9A9B-2D4886D285E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Codes –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,0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,8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,5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CDC-ACA4-4116-9158-6B687AA3B8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/ICD-10 Code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equivalence mappings (G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aid in converting applications and systems from I-9 to I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0BC-0950-412F-BC59-C0CF2B5C69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January 16, 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-0013-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docket.access.gpo.gov/2009/pdf/E9-743.pd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, 2013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EA2-608B-4BEA-8C2C-D37056D3F6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2666880"/>
          <a:ext cx="6858000" cy="2209680"/>
        </p:xfrm>
        <a:graphic>
          <a:graphicData uri="http://schemas.openxmlformats.org/drawingml/2006/table">
            <a:tbl>
              <a:tblPr/>
              <a:tblGrid>
                <a:gridCol w="2466000"/>
                <a:gridCol w="2177640"/>
                <a:gridCol w="22143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D13-FD00-47CD-9059-1741F53CD1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llustrated use of GEMS by developing ICD-10 version of MS-D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with digestive MS-DRGs, Major Diagnostic Category (MDC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results at September 24, 2008 ICD-9-CM Coordination &amp; Maintenance Committe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omplete all MS-DRGS by October 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DFF-6991-4924-821F-7C1C3EDE68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945-640E-4A59-870B-0B295A3F87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125-0520-4623-8240-07143FE62C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0F4-3F0C-4861-99F4-C8D2731B62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Ms produce 95% of the MDC 6 mapping without any need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will need clinic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219320"/>
          <a:ext cx="6786720" cy="240192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310-0FFE-4C08-AB3F-CDB6A2F849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92.27 is associated with 261 PCS co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C0A-DAE0-4E72-987C-FDB246E21D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87C-C475-456C-87F3-A314C7A812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942-58E6-43A0-9D95-DA71251C8B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discuss progress at future C&amp;M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6, 1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for C&amp;M at http://www.cms.hhs.gov/apps/events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ICD-10 Grouper by October 2009, post by the end of 2009 on ICD-10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Grouper logic subject to rule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C40-4F82-4B8C-8201-6BFB3D6B6B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date October 1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ate for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ervice for ambulatory &amp; physician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discharge for inpatient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des will not be accepted for services provided on or after October 1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laims for services prior to implementation date will continue to flow through systems fo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7E9-5B62-4D53-AB70-998599F53B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EMs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yers found the detail da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streamlined Reimbursement Mapping (one to one best m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would assist in a more simple conversion of codes for reimbursemen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717-90E3-418A-AD07-74B7EFDA32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percent of the I-10 codes is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California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98E-E14B-4670-82E2-14C1A2AC3D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Mapp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and Reimbursement mappings were designed to be used by all providers, payers, and data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tools to assist in conver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publicly available on the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tinue to update and maintain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2E8-1014-4B9E-B3CF-FF40F5C48F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d on CMS ICD-10 website http://www.cms.hhs.gov/ICD10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Diagnosis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cedure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Reimbursement map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Digestive System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version of ICD-10-CM and PCS codes and official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9B9-37A8-47CC-B626-94BE469310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worked collaboratively with AHA, AHIMA, and CDC (Cooperating Parties) on outreach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resources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6AA-FC13-43EB-A9C1-3223F17FAC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ICD-10 Outreach calls prior to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calls posted at http://www.cms.hhs.gov/ICD10/07_Sponsored_Calls.asp#TopOf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s of each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used in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FEC-5741-47E4-9D36-354559BC3B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dditional outreach efforts through collaboration with Cooperating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future educational outreach will be posted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, AHIMA, and others will also provide more detailed outreach and educatio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192-1825-4CCB-9CE5-4E6E8D4BDC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&amp; Maintenance Committee will continue to discuss updates to ICD-9-CM, ICD-10-CM, &amp; 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updates on CMS &amp; CDC home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total codes changes with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040-54DE-4D71-9D83-19B0C992B0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name – ICD-10 Coordination &amp; Maintenance Committee upo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iscuss any need to freeze coding systems prior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genda item for September 16-17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ICD-10 and/or ICD-9-CM be frozen prior to implemen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the freeze beg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8F9-21F8-4ADA-A0B7-08BF945795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vailable on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CD-10-CM and PCS systems inclu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quivalence Mappings (GEMs) between ICD-9-CM and ICD-10 (both w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guide for G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ed Reimbursement Mapp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ICD-10 version of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352-E612-4B6B-A310-33205B57D7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9T13:27:58Z</dcterms:created>
  <dc:creator>Pat Brooks</dc:creator>
  <dc:description/>
  <cp:keywords>ICD-10-PCS</cp:keywords>
  <dc:language>en-US</dc:language>
  <cp:lastModifiedBy>3M HIS rb</cp:lastModifiedBy>
  <cp:lastPrinted>1999-04-09T13:25:34Z</cp:lastPrinted>
  <dcterms:modified xsi:type="dcterms:W3CDTF">2009-03-06T19:42:24Z</dcterms:modified>
  <cp:revision>117</cp:revision>
  <dc:subject>CPRI presentation</dc:subject>
  <dc:title>ICD-10-P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